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5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a2a2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6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7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7F76-77B2-4D75-A8AB-A237CFE28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492A-31E0-4A3B-8BBE-6C6EDEA4C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9846-C18F-4F66-B866-2E2BEFE66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1F1B-1BE3-4CA2-A8DE-910651719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368C-8253-49A6-9D1C-C4A704673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7C154B7-F0EB-4AB0-81DA-523C4C0F5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E6CD-4EA6-4F38-B596-BA3DA981F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2416-E7D7-40C4-ADFC-B9DEC3741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2600" y="4349520"/>
            <a:ext cx="5197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D59B-C3C1-415F-A3E7-D63DE54A9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1ECC-2744-4A81-ADE2-0EA1A39C5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69C7-9C3C-4547-A4F0-9B3CAF550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55FF-F33F-43FB-AA5F-1D53DC296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6A1B-4514-4B02-B48F-FECD7F274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54A9-EB76-46FD-AFA0-8FEDAD650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98C-17B5-4AFB-BEB6-41DCABAB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DC0-8A45-47EE-9214-E68DE424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5942-281B-479A-9A95-C8EB00B1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4ED-2F50-4D81-BE14-1B7E36B7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" indent="0" algn="ct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"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" indent="0" algn="ct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2D0-B706-4C35-B5C5-EA46101D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1640E-7148-40A9-823E-AB29AC4992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" indent="0" algn="ct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C21BB-16CD-49E5-9CE9-84EAA2839E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7B87F-7F37-4F8F-92A3-4DD16E03D9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1774D-3498-470E-ACAF-43E897168F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BAE85-B53C-4E79-A42F-AF1DD694E8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E38-66BC-4ED4-A8B1-E39693B8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"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44ED7-AF57-4CD1-A09F-DA4F3D8D61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0D475-C25C-4BA5-803C-5E4415E77B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8D639-D307-4220-9275-5E5F36F3B4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1FD55-E97F-48C1-B741-D25F5BF7A4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93687-90F9-454F-B646-672CD2A432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CAD24-89DC-4274-97ED-906411F976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7908D-DB19-47AD-B00A-6FEEAF217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DC3-5B79-4A0A-B123-952EEF7B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0A5-D36A-41C3-88F2-7AEA30A8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"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AB0B-1415-4609-B949-40D230DB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484-1D6D-48C1-BD9C-FB46A1E4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EE0-E848-44EF-AA2D-CF2C4987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AD4-0840-4CE1-9DCB-4EDBFD2C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a2a2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2212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72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96080" y="6613200"/>
            <a:ext cx="990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356520"/>
            <a:ext cx="655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3280" y="6339960"/>
            <a:ext cx="5335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147C-9CB0-49B5-9E45-84476E79B5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a2a2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2212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72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a2a2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2212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72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4"/>
          </p:nvPr>
        </p:nvSpPr>
        <p:spPr>
          <a:xfrm>
            <a:off x="8153280" y="6339960"/>
            <a:ext cx="5335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A1EF-D6B0-4736-8D5A-B8E6DDA1D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Kyle.Brown@bea.gov" TargetMode="External"/><Relationship Id="rId2" Type="http://schemas.openxmlformats.org/officeDocument/2006/relationships/hyperlink" Target="mailto:William.Nicolls@bea.gov" TargetMode="External"/><Relationship Id="rId3" Type="http://schemas.openxmlformats.org/officeDocument/2006/relationships/hyperlink" Target="mailto:Harvey.Davis@bea.gov" TargetMode="External"/><Relationship Id="rId4" Type="http://schemas.openxmlformats.org/officeDocument/2006/relationships/hyperlink" Target="mailto:Paul.Kern@bea.g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lation:  What is it and How it is Measured</a:t>
            </a:r>
            <a:endParaRPr b="0" lang="en-US" sz="24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95280" y="298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Kyle Brown, Chief, Goods and Distributive Service Bran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98989"/>
                </a:solidFill>
                <a:latin typeface="Calibri"/>
              </a:rPr>
              <a:t>The NABE Foundation’s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21</a:t>
            </a:r>
            <a:r>
              <a:rPr b="0" lang="en-US" sz="18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Annual Economic Measurement Semin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July 15th – 16th, 202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1676520" y="2514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paring Price Measures:  The CPI and the PCE Pric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a2a2"/>
                </a:solidFill>
                <a:latin typeface="Calibri"/>
              </a:rPr>
              <a:t>Core Price Indexes</a:t>
            </a: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pic>
        <p:nvPicPr>
          <p:cNvPr id="146" name="Chart 1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a2a2"/>
                </a:solidFill>
                <a:latin typeface="Calibri"/>
              </a:rPr>
              <a:t>Core Price Indexes</a:t>
            </a: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1"/>
          <a:stretch/>
        </p:blipFill>
        <p:spPr>
          <a:xfrm>
            <a:off x="-73080" y="1371600"/>
            <a:ext cx="8912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a2a2"/>
                </a:solidFill>
                <a:latin typeface="Calibri"/>
              </a:rPr>
              <a:t>Market-based PCE Price Index </a:t>
            </a: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pic>
        <p:nvPicPr>
          <p:cNvPr id="150" name="Chart 1" descr=""/>
          <p:cNvPicPr/>
          <p:nvPr/>
        </p:nvPicPr>
        <p:blipFill>
          <a:blip r:embed="rId1"/>
          <a:stretch/>
        </p:blipFill>
        <p:spPr>
          <a:xfrm>
            <a:off x="152280" y="1139760"/>
            <a:ext cx="86868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a2a2"/>
                </a:solidFill>
                <a:latin typeface="Calibri"/>
              </a:rPr>
              <a:t>PCE Contact Information</a:t>
            </a: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160" y="1142640"/>
            <a:ext cx="83055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CE Go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9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yle Brown, Goods and Distributive Services Branch Chief, (301) 278-9688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 u="sng">
                <a:solidFill>
                  <a:srgbClr val="6cace4"/>
                </a:solidFill>
                <a:uFillTx/>
                <a:latin typeface="Calibri"/>
                <a:hlinkClick r:id="rId1"/>
              </a:rPr>
              <a:t>Kyle.Brown@bea.gov</a:t>
            </a:r>
            <a:r>
              <a:rPr b="0" i="1" lang="en-US" sz="2000" spc="-1" strike="noStrike">
                <a:solidFill>
                  <a:srgbClr val="004c97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iam Nicolls, Section Chief – PCE Goods &amp; Distributive Services,          (301) 278-9544, </a:t>
            </a:r>
            <a:r>
              <a:rPr b="0" lang="en-US" sz="2000" spc="-1" strike="noStrike" u="sng">
                <a:solidFill>
                  <a:srgbClr val="6cace4"/>
                </a:solidFill>
                <a:uFillTx/>
                <a:latin typeface="Calibri"/>
                <a:hlinkClick r:id="rId2"/>
              </a:rPr>
              <a:t>William.Nicolls@bea.g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9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C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9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vey Davis, Business and Consumer Services Branch Chief, (301) 278-9719, </a:t>
            </a:r>
            <a:r>
              <a:rPr b="0" lang="en-US" sz="2000" spc="-1" strike="noStrike" u="sng">
                <a:solidFill>
                  <a:srgbClr val="6cace4"/>
                </a:solidFill>
                <a:uFillTx/>
                <a:latin typeface="Calibri"/>
                <a:hlinkClick r:id="rId3"/>
              </a:rPr>
              <a:t>Harvey.Davis@bea.gov</a:t>
            </a:r>
            <a:r>
              <a:rPr b="0" i="1" lang="en-US" sz="2000" spc="-1" strike="noStrike">
                <a:solidFill>
                  <a:srgbClr val="004c97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ul Kern, Section Chief – Healthcare, Education, and Administrative Services, (301) 278-9596, </a:t>
            </a:r>
            <a:r>
              <a:rPr b="0" lang="en-US" sz="2000" spc="-1" strike="noStrike" u="sng">
                <a:solidFill>
                  <a:srgbClr val="6cace4"/>
                </a:solidFill>
                <a:uFillTx/>
                <a:latin typeface="Calibri"/>
                <a:hlinkClick r:id="rId4"/>
              </a:rPr>
              <a:t>Paul.Kern@bea.gov</a:t>
            </a:r>
            <a:r>
              <a:rPr b="0" i="1" lang="en-US" sz="2000" spc="-1" strike="noStrike">
                <a:solidFill>
                  <a:srgbClr val="004c97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vey Davis, Acting Section Chief – Accommodation, Entertainment and Consumer Servi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153280" y="6340320"/>
            <a:ext cx="5335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A5CC-6AB4-4628-91DF-AE47A712B01C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a2a2"/>
                </a:solidFill>
                <a:latin typeface="Calibri"/>
              </a:rPr>
              <a:t>The PCE Price Index and the CPI</a:t>
            </a: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pic>
        <p:nvPicPr>
          <p:cNvPr id="129" name="Chart 1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88394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a2a2"/>
                </a:solidFill>
                <a:latin typeface="Calibri"/>
              </a:rPr>
              <a:t>What are the Differences? </a:t>
            </a: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1295280"/>
          <a:ext cx="8686800" cy="4943520"/>
        </p:xfrm>
        <a:graphic>
          <a:graphicData uri="http://schemas.openxmlformats.org/drawingml/2006/table">
            <a:tbl>
              <a:tblPr/>
              <a:tblGrid>
                <a:gridCol w="4305240"/>
                <a:gridCol w="438156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CE Price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12240">
                      <a:solidFill>
                        <a:srgbClr val="004c97"/>
                      </a:solidFill>
                    </a:lnB>
                    <a:solidFill>
                      <a:srgbClr val="004c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12240">
                      <a:solidFill>
                        <a:srgbClr val="004c97"/>
                      </a:solidFill>
                    </a:lnB>
                    <a:solidFill>
                      <a:srgbClr val="004c97"/>
                    </a:solidFill>
                  </a:tcPr>
                </a:tc>
              </a:tr>
              <a:tr h="6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d by BEA using BLS price indexes and other data sour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1224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d by BLS using surveys of consumer prices and other data sour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1224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143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lects the price of expenditures made by households, including those made on behalf of households. </a:t>
                      </a:r>
                      <a:r>
                        <a:rPr b="0" lang="en-US" sz="1400" spc="-1" strike="noStrike">
                          <a:solidFill>
                            <a:srgbClr val="d86018"/>
                          </a:solidFill>
                          <a:latin typeface="Calibri"/>
                        </a:rPr>
                        <a:t>[PCE constitutes about 70% of the GDP, so the PCE price index covers a substantial portion of U.S. economic transactions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lects the price of out-of-pocket expenditures made by consum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sition of expenditures changes from quarter to quarter. </a:t>
                      </a:r>
                      <a:r>
                        <a:rPr b="0" lang="en-US" sz="1400" spc="-1" strike="noStrike">
                          <a:solidFill>
                            <a:srgbClr val="d86018"/>
                          </a:solidFill>
                          <a:latin typeface="Calibri"/>
                        </a:rPr>
                        <a:t>[composition also changes from month to month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sition of the market basket remains fixed (updated every year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 using a chained Fisher index formul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 using a Laspeyres-type index formul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s are derived from business surveys. </a:t>
                      </a:r>
                      <a:r>
                        <a:rPr b="0" lang="en-US" sz="1400" spc="-1" strike="noStrike">
                          <a:solidFill>
                            <a:srgbClr val="d86018"/>
                          </a:solidFill>
                          <a:latin typeface="Calibri"/>
                        </a:rPr>
                        <a:t>[Such as the Census Monthly Retail Trade Survey and Quarterly Services Survey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s are derived from household surveys. </a:t>
                      </a:r>
                      <a:r>
                        <a:rPr b="0" lang="en-US" sz="1400" spc="-1" strike="noStrike">
                          <a:solidFill>
                            <a:srgbClr val="d86018"/>
                          </a:solidFill>
                          <a:latin typeface="Calibri"/>
                        </a:rPr>
                        <a:t>[The Consumer Expenditure Survey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a2a2"/>
                </a:solidFill>
                <a:latin typeface="Calibri"/>
              </a:rPr>
              <a:t>Composition of the PCE Price Index</a:t>
            </a: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57480" y="1828800"/>
          <a:ext cx="6629400" cy="2486160"/>
        </p:xfrm>
        <a:graphic>
          <a:graphicData uri="http://schemas.openxmlformats.org/drawingml/2006/table">
            <a:tbl>
              <a:tblPr/>
              <a:tblGrid>
                <a:gridCol w="3160440"/>
                <a:gridCol w="346896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Inde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solidFill>
                      <a:srgbClr val="004c9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are of Nominal P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solidFill>
                      <a:srgbClr val="004c97"/>
                    </a:solidFill>
                  </a:tcPr>
                </a:tc>
              </a:tr>
              <a:tr h="534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-cost Index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a2a2"/>
                </a:solidFill>
                <a:latin typeface="Calibri"/>
              </a:rPr>
              <a:t>Weights</a:t>
            </a: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04920" y="1219320"/>
          <a:ext cx="8534160" cy="5300640"/>
        </p:xfrm>
        <a:graphic>
          <a:graphicData uri="http://schemas.openxmlformats.org/drawingml/2006/table">
            <a:tbl>
              <a:tblPr/>
              <a:tblGrid>
                <a:gridCol w="3429000"/>
                <a:gridCol w="1752480"/>
                <a:gridCol w="1676520"/>
                <a:gridCol w="1676160"/>
              </a:tblGrid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PI Expenditure 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solidFill>
                      <a:srgbClr val="004c9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ember 2023 - Using 2022 Weigh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solidFill>
                      <a:srgbClr val="004c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CE Weigh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solidFill>
                      <a:srgbClr val="004c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PI Weigh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solidFill>
                      <a:srgbClr val="004c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CE less C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solidFill>
                      <a:srgbClr val="004c97"/>
                    </a:soli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ite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and beverag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l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hous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ar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por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cal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re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tion and communi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goods and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a2a2"/>
                </a:solidFill>
                <a:latin typeface="Calibri"/>
              </a:rPr>
              <a:t>Medical Care:  An Example of Differences</a:t>
            </a:r>
            <a:endParaRPr b="0" lang="en-US" sz="2800" spc="-1" strike="noStrike">
              <a:solidFill>
                <a:srgbClr val="9ea2a2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221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CE Price Index includes health care paid for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4c97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c97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4c97"/>
                </a:solidFill>
                <a:latin typeface="Calibri"/>
              </a:rPr>
              <a:t>Households </a:t>
            </a:r>
            <a:r>
              <a:rPr b="0" lang="en-US" sz="1800" spc="-1" strike="noStrike">
                <a:solidFill>
                  <a:srgbClr val="d86018"/>
                </a:solidFill>
                <a:latin typeface="Calibri"/>
              </a:rPr>
              <a:t>[Corresponds to the CPI scope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4c97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c97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4c97"/>
                </a:solidFill>
                <a:latin typeface="Calibri"/>
              </a:rPr>
              <a:t>Employ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4c97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c97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4c97"/>
                </a:solidFill>
                <a:latin typeface="Calibri"/>
              </a:rPr>
              <a:t>Government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30040" indent="-2221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ght Dif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221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30040" indent="-2221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ce Differences—PPIs used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4c97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c97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4c97"/>
                </a:solidFill>
                <a:latin typeface="Calibri"/>
              </a:rPr>
              <a:t>Hospi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4c97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c97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4c97"/>
                </a:solidFill>
                <a:latin typeface="Calibri"/>
              </a:rPr>
              <a:t>Physici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4c97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c97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4c97"/>
                </a:solidFill>
                <a:latin typeface="Calibri"/>
              </a:rPr>
              <a:t>Nursing h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4c97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c97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4c97"/>
                </a:solidFill>
                <a:latin typeface="Calibri"/>
              </a:rPr>
              <a:t>Home health car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a2a2"/>
                </a:solidFill>
                <a:latin typeface="Calibri"/>
              </a:rPr>
              <a:t>Scope-adjusted Weights</a:t>
            </a:r>
            <a:r>
              <a:rPr b="0" lang="en-US" sz="3600" spc="-1" strike="noStrike" baseline="30000">
                <a:solidFill>
                  <a:srgbClr val="9ea2a2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1219320"/>
          <a:ext cx="8534160" cy="4800600"/>
        </p:xfrm>
        <a:graphic>
          <a:graphicData uri="http://schemas.openxmlformats.org/drawingml/2006/table">
            <a:tbl>
              <a:tblPr/>
              <a:tblGrid>
                <a:gridCol w="3429000"/>
                <a:gridCol w="1752480"/>
                <a:gridCol w="1676520"/>
                <a:gridCol w="1676160"/>
              </a:tblGrid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PI Expenditure 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solidFill>
                      <a:srgbClr val="004c9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ember 2023 – Using 2022 Weigh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solidFill>
                      <a:srgbClr val="004c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CE Weigh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solidFill>
                      <a:srgbClr val="004c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PI Weigh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solidFill>
                      <a:srgbClr val="004c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CE less C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solidFill>
                      <a:srgbClr val="004c97"/>
                    </a:soli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ite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and beverag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l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hous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ar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por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cal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re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tion and communi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goods and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c97"/>
                      </a:solidFill>
                    </a:lnL>
                    <a:lnR w="5760">
                      <a:solidFill>
                        <a:srgbClr val="004c97"/>
                      </a:solidFill>
                    </a:lnR>
                    <a:lnT w="5760">
                      <a:solidFill>
                        <a:srgbClr val="004c97"/>
                      </a:solidFill>
                    </a:lnT>
                    <a:lnB w="5760">
                      <a:solidFill>
                        <a:srgbClr val="004c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136"/>
          <p:cNvSpPr/>
          <p:nvPr/>
        </p:nvSpPr>
        <p:spPr>
          <a:xfrm>
            <a:off x="330120" y="60642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CE weights are adjusted (by including or excluding items) to match the content of the CP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a2a2"/>
                </a:solidFill>
                <a:latin typeface="Calibri"/>
              </a:rPr>
              <a:t>PCE and CPI Indexes</a:t>
            </a: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pic>
        <p:nvPicPr>
          <p:cNvPr id="142" name="Chart 1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60760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a2a2"/>
                </a:solidFill>
                <a:latin typeface="Calibri"/>
              </a:rPr>
              <a:t>Core Price Indexes</a:t>
            </a:r>
            <a:endParaRPr b="0" lang="en-US" sz="3600" spc="-1" strike="noStrike">
              <a:solidFill>
                <a:srgbClr val="9ea2a2"/>
              </a:solidFill>
              <a:latin typeface="Calibri"/>
            </a:endParaRPr>
          </a:p>
        </p:txBody>
      </p:sp>
      <p:pic>
        <p:nvPicPr>
          <p:cNvPr id="144" name="Chart 1" descr=""/>
          <p:cNvPicPr/>
          <p:nvPr/>
        </p:nvPicPr>
        <p:blipFill>
          <a:blip r:embed="rId1"/>
          <a:stretch/>
        </p:blipFill>
        <p:spPr>
          <a:xfrm>
            <a:off x="152280" y="1146240"/>
            <a:ext cx="88394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8:33:25Z</dcterms:created>
  <dc:creator>bealocaladmin</dc:creator>
  <dc:description/>
  <dc:language>en-US</dc:language>
  <cp:lastModifiedBy>Brown, Kyle</cp:lastModifiedBy>
  <cp:lastPrinted>2016-06-30T14:17:20Z</cp:lastPrinted>
  <dcterms:modified xsi:type="dcterms:W3CDTF">2024-07-23T15:00:09Z</dcterms:modified>
  <cp:revision>225</cp:revision>
  <dc:subject/>
  <dc:title>Slide 1</dc:title>
</cp:coreProperties>
</file>